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CD1-EF40-440B-A0E9-6C9005FC6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885C-D26B-42A6-A658-71C334A06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у нас возникают проблемы с собой, своими партнёрами или своим окружением, мы должны исследовать природу конфли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AE3-094A-47DF-90C0-4692039C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15C-427B-40F1-846E-88188A6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A75-F3EF-4F9D-8A61-77738CD3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B45-BD9E-4F55-810A-1283D095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5ED-4A75-4651-BDF4-4890F82C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709A-A159-455D-80DF-DB8CE44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91A9-2724-464E-9DBB-D92835BA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3FC-E166-48A7-A776-45611196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9919-23AF-47B5-86E1-C337CD08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DE77-F1A5-4AA5-AEB9-7A6F4181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0CDE-3AB3-4A8D-903B-5D9CA9F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F20-7A94-4658-9A93-E3DAF74E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E75-06D8-4E5E-A63D-03FEC2E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55C-958B-4BBA-8A84-341BD9F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4E11-B118-4595-BE60-A41E17C4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9852-DA43-4790-A043-2BC75B0D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881-B4B9-40BB-939B-FCD19ED6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47D7-D5BE-4647-9816-682B52D4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53FD-C12D-48DA-9DCE-02076F4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1F00-496D-4493-B9C8-D001A0AE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6EE6-00FA-44EE-BC1D-63C888F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0C39-E69C-43C2-A75C-839579A0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9F3-71A9-48E2-9E44-2925C33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7B90-E829-4D0A-99EE-0AA1CE5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72D0A-D2CE-40AD-859D-3900CEA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6EF1-9A4B-49AB-920F-6980CF1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600C-4B93-41F5-BB6B-EFC6F70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B0B8-1680-4474-8394-1790902B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BBFD-9931-497C-953C-F056E1E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0586-2323-4D90-9A22-26A4086E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F97F-EC40-4E9E-926E-1FC77965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B10D-2E79-43F9-BE32-D94593A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6FA6-358E-4CFC-9EDE-F555B747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D9F-6149-4DF8-9E2A-6004195C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E9C3-F9A8-4DCC-A774-8A7D84D0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22FE-209E-49EE-BB65-3FB1ACD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D0DF-BA49-4905-97C9-9A917EB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C842-8F42-4987-9787-D56DFD6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4FEF-B589-4856-9581-286FB20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28EB-DE1B-4A2E-98CE-D883C46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42AD-C64A-45C3-82B1-E2F229FB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8110-F246-496F-ADD2-CC794BDE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4D40-777B-44E2-89AC-75216FBD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1564-D531-401E-906D-AF73DCF7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81F-C21E-40D1-AFC6-5F4B57B9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A57E-4962-40F0-B505-79AA6A7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40DC-D202-455A-8E69-5A321201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AF6D-E94D-4030-A084-AA2F458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3A5E-103B-43A3-B3C8-9E448CD9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AD1B-75F2-41F9-A7F2-9FD6DD5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26344-4C54-4DCF-895C-3EC0AE6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B144-7908-450A-A14A-3FB2C9D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58E8-824D-41A9-AB5E-5D581E9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32D9-707F-456E-A742-D59BD5E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6BF0-E6ED-4F6F-A070-75B0874F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0FD-355B-46A3-8F23-B79AEBD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08707-F058-4949-B21D-A586D883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5C3CB-452B-4BB9-B801-58FD89C4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ECC73-6CBD-4346-9F5A-EDB8C74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FD62-5EE6-43C1-8C59-6BD8650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B9B54-5378-4F91-A5C6-0AD43C2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6C55-B7A2-4FDE-8D40-BE9AA275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05537-0533-49D4-924D-BBA96EB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4D04-EAEC-43ED-98AC-E30CC87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1C61B-0C58-4010-B5E8-BAAE5C7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7617-5D41-498D-B381-9174153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BE9-218E-4EEB-87BF-2346A2E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D2EC-1F2C-4B44-91EB-49B1083A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4611-4C60-4AF9-9D0D-B83F3B49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2A0C-C57F-4968-A97D-F9A2D8A5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36BB-6684-48DC-B69C-0A941303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A6A0-AD39-4CB3-9FF5-C8CF894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5F8B-AAA1-4016-BAD7-38A4415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41A0-68EA-4500-8084-EF14C3AF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11493-33E0-4C96-B247-45E164B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4313-23FF-4E4F-9FF9-9C0B5C79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1387-76F1-440B-9D4C-26AC579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B3C-3F48-4541-A3D1-62A6371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8471-2284-4DB9-A973-A7EA875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5FE35-51A6-407C-AE14-ED5A08E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2B3F-4129-4693-891A-1213860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FA2E-58D2-4176-9DD8-57023880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1412-558E-4F00-8352-00A76FFA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BFF9-0D76-459E-B054-78F84693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719CA-42E4-4591-91D1-8FBE90EE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8255-61E8-4813-BF1F-5249392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0575-E4B6-470A-98AA-713A626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6AFF0-B92D-4C02-B2DF-BC97DA6C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3BF-4851-40CA-B1BC-1F790F3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0843-D069-40AA-8672-8B92B96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897F-200E-4F30-8F68-301DB79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3FFB-D83A-4122-94DD-9D65AE1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9AF0C-D750-49B4-95E8-0DFEBE5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E87F-A103-4073-84E2-0E9D6C1E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8A55C-5097-4305-B451-B0DDA2F6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BB06-9BB9-4A04-834A-8A576E53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ABEA-FB13-4AF1-A593-9B90850BA8D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064-7C6F-4C09-AFBD-36667C854C0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944-092D-4E16-BEBA-5227EFB9165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19D-1FB5-4D8D-9639-279E851C136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CD6-FDEA-421D-A2AE-00CD1F5949A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9B7-303A-42DB-BBBE-9D2F788024C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DE53-3E9D-4099-AA27-BB1D1147FFD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CDC-B545-4826-8BC9-674EB495E87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i-u.ru%2Fbiblio%2Fpersons%2Fp227%2Fphoto%2Fbook_photo.jpg&amp;pageurl=http%3A%2F%2Fwww.i-u.ru%2Fbiblio%2Fpersons.aspx%3Fid%3D227&amp;id=97371802&amp;iid=5&amp;imgwidth=200&amp;imgheight=300&amp;imgsize=39196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онфликтологический подход к проблемам лич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53"/>
                </a:solidFill>
                <a:latin typeface="Cambria"/>
              </a:rPr>
              <a:t>Лектор: кандидат социологических наук, доцент Л.К. Качал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234-6751-4F9E-8B7C-EBA50437F92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зитивный 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ности восприятия и любви принадлежат к сущности любого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и существуют до любого культурного воз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ловек по своей природе хорош, доб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существует людей, которые были бы плохими по своей с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42D-29FB-4832-9897-ADB28961419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зитивная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реинтерпретац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кцент на способност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имул переосмысления старых концеп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51A-7852-4C54-A848-EFADB29883D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имеры интерприта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вешивание ярлы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деление способ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01A-93BD-41CB-80B9-E28FD4CA6DB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лкоголиз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24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торможенность, бестактность, шумное пове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с помощью алкоголя сделать конфликты терпим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7F0-FDD0-4C1B-A408-A70EA3499E9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мбивалентное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отнош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560" y="15998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ествование противоречивых чув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не фиксироваться одним спосо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21F-B7AC-49CF-91CB-AA8FF54A03C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Непослушание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, дерзост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рицание внешних авторит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ность сказать н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4E6-8856-4BE7-AB05-FD0591DA443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Депресс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щущение подавл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реагировать глубокими эмоц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32EF-E412-406C-88EE-28A1650AA10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Лен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рможение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т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избегать требований достижения, оградить от перегруз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09CF-A8B2-46EB-A3E7-892D5EDC3D2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зитивный облик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бщее у всех люд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чем связаны различ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4" descr="i?id=97371802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50960"/>
            <a:ext cx="2433600" cy="366408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AF0-9BB6-420E-AF73-91454A090A4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2. Четыре инструмента позна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6A6-77B0-4ADE-99F8-3336BD6F534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опрос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Позитивный образ человека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Четыре инструмента позн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Транскультурный аспек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итивного обра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Актуальные спосо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3E72-2699-4F07-A194-36FD1362E82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осприятие себя и окружающи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Тело (путь ощущений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Деятельность (путь разума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Контакты (путь традиций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Воображение (путь интуиции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8CA-202F-41EB-A33E-39A0E6419AE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Четыре канала позна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4"/>
          <p:cNvSpPr/>
          <p:nvPr/>
        </p:nvSpPr>
        <p:spPr>
          <a:xfrm rot="2700000">
            <a:off x="3563640" y="2475000"/>
            <a:ext cx="1940040" cy="183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352680" y="1523880"/>
            <a:ext cx="2057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/ощу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276720" y="495288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/Тра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5943600" y="327672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295280" y="3276720"/>
            <a:ext cx="1828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352680" y="3200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созн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5AE-0346-4D19-AA19-DFD0C3FA0FB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37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ело - ощуще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53316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ак человек воспринимает своё тело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ак человек перерабатывает сенсорные впечатления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сихосоматическая переработка пробле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Реакция тело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Уход в болезн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Физическая активност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BDD3-2676-47E8-88DD-0A8CB11D07E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Деятельность</a:t>
            </a: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 - </a:t>
            </a: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разум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4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Оптимизация деятельности через мышлени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Реакции на конфликты: бегство в работу или бегство от требований достижения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CD9-1D49-4CCC-BA34-26CDAD57AFB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Контакты - тради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пособность отношений с другими людьм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ультурные контакт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Усвоение опыта и традиц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арианты: бегство в общение или избегание общ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9038-CED6-4A2B-A8B1-B2871FBFDD4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фера воображения - интуи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09480" y="1294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Интуиция в психологи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В религии – озар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Сущность воображения – приближение к неизвестному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Воображение – это развит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D4C-7C85-4605-8CFF-86F53B01DCB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ессознательно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Это местоположение неразвитых способностей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Место вытесненных способностей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1A1-4953-4892-A416-888CE1BC3FD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Нарушения в сфере Тело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арушение сн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отеря аппетит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Гиподинам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Утомляемос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Болезн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6B5-7043-48E0-A5A3-78C95524D99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блемы в сфере Разу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1426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арушение мышлен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роблемы с концентрацией вниман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роблемы с памятью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клонность к рационализированию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авязчивые мысл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4493-FF21-41F3-AD68-F45D9334A1D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блемы в сфере Контакт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Фанатиз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редрассудк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Ограниченность взглядов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тереотипы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A0B-8B83-4FC9-BF70-025DA2C7B9D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Литератур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зешкиан Н. Позитивная семейная психотерапия: семья как терапевт. – М., 1996. – 336 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зешкиан Н. Психосоматика и позитивная психотерапия. – М., 2006. – 464 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зешкиан Н. Тренинг разрешения конфликтов. Психотерапия повседневной жизни. – М., 2006. –296 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зешкиан Н. Торговец и попугай: восточные истории и психотерапия. – М., 2006. – 160 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650A-BB61-44A5-AE11-5E1D318BDBF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64653"/>
                </a:solidFill>
                <a:latin typeface="Cambria"/>
              </a:rPr>
              <a:t>Проблемы</a:t>
            </a:r>
            <a:r>
              <a:rPr b="0" lang="ru-RU" sz="3800" spc="-1" strike="noStrike">
                <a:solidFill>
                  <a:srgbClr val="464653"/>
                </a:solidFill>
                <a:latin typeface="Cambria"/>
              </a:rPr>
              <a:t> в сфере Воображение</a:t>
            </a:r>
            <a:endParaRPr b="0" lang="en-US" sz="3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Бескрайнее фантазировани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Отрыв от реальност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авязчивые страх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69E-D59F-46B5-B55A-766D2F351E5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3. Транскультурный аспек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озитивного образа лич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A59-9866-48AC-809D-9F3A866F40E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Межкультурная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блемати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анскультурный подход играет главную роль в позитивном мет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0C47-C966-47E8-8FB5-ABA0A197C2B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53"/>
                </a:solidFill>
                <a:latin typeface="Cambria"/>
              </a:rPr>
              <a:t>Различия в понимании проблем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002-D064-4B90-AF6B-85FE7593E39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олезн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ло кто посещ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сещают родственники и друз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DCF-4704-41A7-A02F-3F5C469B55A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трах одиночеств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жидания адресуются малым групп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96252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сширенная коммуник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30CD-82D4-4221-A32C-81F2D6E3B06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Одиночество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й сильнее всего в одино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диночество как нарушение довер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392-DD7F-48C4-9F28-58989747344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Уваж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а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умное поведение как невежлив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рмально, когда кто-то шумит, особенно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48E4-6453-4E43-BE73-313E18770C5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64653"/>
                </a:solidFill>
                <a:latin typeface="Cambria"/>
              </a:rPr>
              <a:t>Распределение времени, энергии по четырём сферам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ва модель 4-х сфер для Восто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ва модель 4-х сфер для Запа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ва модель 4-х сфер для Росс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EB0-224D-4384-895D-E8BD28B2BF2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осток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фера «Контакты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фера «Воображени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4"/>
          <p:cNvSpPr/>
          <p:nvPr/>
        </p:nvSpPr>
        <p:spPr>
          <a:xfrm rot="2700000">
            <a:off x="3657240" y="3809880"/>
            <a:ext cx="167652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3429000" y="5943600"/>
            <a:ext cx="2133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990720" y="4495680"/>
            <a:ext cx="2133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74C0-6B19-4E74-835E-3F4E5D9462E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1. Позитивный образ челове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.Пезешки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тор медиц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933 -2010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4" descr="Пезешкиан Носсрат"/>
          <p:cNvPicPr/>
          <p:nvPr/>
        </p:nvPicPr>
        <p:blipFill>
          <a:blip r:embed="rId1"/>
          <a:stretch/>
        </p:blipFill>
        <p:spPr>
          <a:xfrm>
            <a:off x="5133960" y="1905120"/>
            <a:ext cx="3289320" cy="4267080"/>
          </a:xfrm>
          <a:prstGeom prst="rect">
            <a:avLst/>
          </a:prstGeom>
          <a:ln w="0">
            <a:noFill/>
          </a:ln>
        </p:spPr>
      </p:pic>
      <p:sp>
        <p:nvSpPr>
          <p:cNvPr id="371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8BD3-3435-46E1-9944-B7917D58BE4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Запа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фера «Тел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фера «Деятельност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4"/>
          <p:cNvSpPr/>
          <p:nvPr/>
        </p:nvSpPr>
        <p:spPr>
          <a:xfrm rot="2700000">
            <a:off x="3657240" y="3809880"/>
            <a:ext cx="167652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3429000" y="3124080"/>
            <a:ext cx="2133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15000" y="4495680"/>
            <a:ext cx="2133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18B-9BAC-40BB-8578-4DC5B325BD1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Росс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ера «Деятель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ера «Контак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ера «Воображ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"/>
          <p:cNvSpPr/>
          <p:nvPr/>
        </p:nvSpPr>
        <p:spPr>
          <a:xfrm rot="2700000">
            <a:off x="3471480" y="3548160"/>
            <a:ext cx="167616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5562720" y="4267080"/>
            <a:ext cx="2133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838080" y="4267080"/>
            <a:ext cx="2133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429000" y="5715000"/>
            <a:ext cx="2133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омер слайда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437-5A38-4801-80D2-F05FD864CBA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ранскультурный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а межличностных отнош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Учитывать принадлежность к субкульту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емейная принадлеж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спользовать в процессе воспитания и обучения, в управле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FF5-AB65-44EB-8291-5AD579354C6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рехмерная модель культур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этн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соци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5"/>
          <p:cNvSpPr/>
          <p:nvPr/>
        </p:nvSpPr>
        <p:spPr>
          <a:xfrm>
            <a:off x="4038480" y="38098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H="1">
            <a:off x="2437920" y="5334120"/>
            <a:ext cx="1600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4038480" y="53341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3124080" y="4114800"/>
            <a:ext cx="1752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омер слайда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C102-C13E-42AC-ACA2-8B89C709E9F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Факторы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перемен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ст на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баниз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ециализ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AB3-DF09-406B-BE5C-903B533BA29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4. Актуальные способ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21A-F161-4D46-A4DF-0920463D67E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ктуальные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пособ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Управляют повед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Являются социальными нормам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олевыми стабилизаторам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Являются конфликтным потенциало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02B-1989-49B8-A686-BD615260EA1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иды </a:t>
            </a:r>
            <a:r>
              <a:rPr b="1" lang="ru-RU" sz="3400" spc="-1" strike="noStrike">
                <a:solidFill>
                  <a:srgbClr val="464653"/>
                </a:solidFill>
                <a:latin typeface="Cambria"/>
              </a:rPr>
              <a:t>актуальных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ервичны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Вторичны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CFE-78CC-49FC-AC18-AA67879E170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Формирование актуальных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6" name="Содержимое 4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5005440"/>
          </a:xfrm>
          <a:prstGeom prst="rect">
            <a:avLst/>
          </a:prstGeom>
          <a:ln w="0">
            <a:noFill/>
          </a:ln>
        </p:spPr>
      </p:pic>
      <p:sp>
        <p:nvSpPr>
          <p:cNvPr id="54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0BD4-A4B2-45E0-8504-523EBC825FA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торичные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пособ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Проявление способности к познанию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Отражают нормы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E361-0623-472D-AC0D-BE266577A76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Х. Пезешкиан (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amid Peseschkian, 1962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94FE-B099-4940-9C08-6B4D986355E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5029200" y="4114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3809880" y="19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Висбаденской Академии психотерапии, президент Всемирной Ассоциации Позитивной Психотерапии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9" descr="http://www.koob.ru/foto/author/11922.jpg"/>
          <p:cNvPicPr/>
          <p:nvPr/>
        </p:nvPicPr>
        <p:blipFill>
          <a:blip r:embed="rId1"/>
          <a:stretch/>
        </p:blipFill>
        <p:spPr>
          <a:xfrm>
            <a:off x="533520" y="144792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явления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торичных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Пунктуаль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Аккурат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Послуша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Вежлив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ест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Усердие/деятель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Точ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Добросовест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A94-6481-432F-8820-D42BDE2EB11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ервичные способност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то эмоциональные отноше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C0A-CFA9-41C2-9CFC-0644A85A0FD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явления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ервичных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Терп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аспределение времен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Уверен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Надежд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32E-0B5F-4CFB-B16D-2013788B0E6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Форма проявления актуальных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Фраз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C60-890B-4B89-94E4-E54EAF4C530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Роль </a:t>
            </a:r>
            <a:r>
              <a:rPr b="1" lang="ru-RU" sz="3400" spc="-1" strike="noStrike">
                <a:solidFill>
                  <a:srgbClr val="464653"/>
                </a:solidFill>
                <a:latin typeface="Cambria"/>
              </a:rPr>
              <a:t>актуальных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 способност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Правила поведе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Критерии восприятия, оценк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асть образа «Я»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F6D-823B-4F56-81CA-E195AD002F5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Действие актуальных </a:t>
            </a:r>
            <a:r>
              <a:rPr b="1" lang="ru-RU" sz="3400" spc="-1" strike="noStrike">
                <a:solidFill>
                  <a:srgbClr val="464653"/>
                </a:solidFill>
                <a:latin typeface="Cambria"/>
              </a:rPr>
              <a:t>способностей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ерез органы чувств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ерез разу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ерез традици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Через фантазии, интуицию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0CF-B3F2-489B-A90F-21409C2F0E7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4573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Модель конфлик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69800" y="1371240"/>
            <a:ext cx="731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1676520" y="1600200"/>
            <a:ext cx="2286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ытия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2895480" y="2438280"/>
            <a:ext cx="3886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ый конфл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5486400" y="1600200"/>
            <a:ext cx="2286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трав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1523880" y="3200400"/>
            <a:ext cx="28958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2743200" y="5486400"/>
            <a:ext cx="4648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ональные рас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5105520" y="3200400"/>
            <a:ext cx="31240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1523880" y="3962520"/>
            <a:ext cx="2743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5181480" y="3962520"/>
            <a:ext cx="2743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т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1523880" y="4724280"/>
            <a:ext cx="2743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5181480" y="4648320"/>
            <a:ext cx="2743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7"/>
          <p:cNvSpPr/>
          <p:nvPr/>
        </p:nvSpPr>
        <p:spPr>
          <a:xfrm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8"/>
          <p:cNvSpPr/>
          <p:nvPr/>
        </p:nvSpPr>
        <p:spPr>
          <a:xfrm>
            <a:off x="655308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9"/>
          <p:cNvSpPr/>
          <p:nvPr/>
        </p:nvSpPr>
        <p:spPr>
          <a:xfrm>
            <a:off x="33526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0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2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>
            <a:off x="3200400" y="4419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6553080" y="4419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320040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6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Номер слайда 2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BBC-16B3-458E-996E-EB0D7595F21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Модель конфлик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уальный конфликт – конфликтные  ситуации, которые порождаются актуальными проблем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тральным элементом базового конфликта являются концепции тесно связанные с личностью и семейными правилами иг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05B-9F61-4CAF-8C6F-7E9DF8EC1D5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ятиступенчатая терап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. Наблюдение/ дистанцировани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 Инвентаризац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. Ситуативная поддерж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. Вербализац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. Расширение системы цел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CEB-409D-4385-9D86-A48CF5F456F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зитивный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480" y="11426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Positum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ранее приобретён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зовые способности: способность к познанию и способность эмоциональная (способность к любв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D59-7BBB-4590-B34F-5FE14A19554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64653"/>
                </a:solidFill>
                <a:latin typeface="Cambria"/>
              </a:rPr>
              <a:t>Условия формирования базовых способностей: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609480" y="1981080"/>
            <a:ext cx="259092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609480" y="32767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846720" y="2438280"/>
            <a:ext cx="21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846000" y="327672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юб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495680" y="1676520"/>
            <a:ext cx="190512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4648320" y="3048120"/>
            <a:ext cx="198108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3809880" y="4572000"/>
            <a:ext cx="213372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3200400" y="2286000"/>
            <a:ext cx="1295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335232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 flipV="1">
            <a:off x="2971800" y="3962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BDBC-372E-484D-9A91-D4CEF1F69B6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пособность к познанию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емление воспринимать ре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а формирования вторичных способностей (пунктуальность, аккуратность, вежливость честность, бережливо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D82-34B0-4143-982A-269B4A59B65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Эмоциональная сфер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09480" y="1294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фера чув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моциональные отно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ность люб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вляются базой первичных способностей (терпение, умение распределять время, навыки установления контактов, доверие, надежд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118F-F16B-41AE-9E32-C688687A665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онид</cp:lastModifiedBy>
  <dcterms:modified xsi:type="dcterms:W3CDTF">2020-08-31T08:36:3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